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55.png" ContentType="image/png"/>
  <Override PartName="/ppt/media/image20.jpeg" ContentType="image/jpeg"/>
  <Override PartName="/ppt/media/image69.pct" ContentType="image/x-pict"/>
  <Override PartName="/ppt/media/image45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57.png" ContentType="image/png"/>
  <Override PartName="/ppt/media/image36.jpeg" ContentType="image/jpeg"/>
  <Override PartName="/ppt/media/image10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3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42.jpeg" ContentType="image/jpeg"/>
  <Override PartName="/ppt/media/image6.png" ContentType="image/png"/>
  <Override PartName="/ppt/media/image83.png" ContentType="image/png"/>
  <Override PartName="/ppt/media/image19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4.png" ContentType="image/png"/>
  <Override PartName="/ppt/media/image81.png" ContentType="image/png"/>
  <Override PartName="/ppt/media/image51.jpeg" ContentType="image/jpeg"/>
  <Override PartName="/ppt/media/image28.jpeg" ContentType="image/jpeg"/>
  <Override PartName="/ppt/media/image87.jpeg" ContentType="image/jpeg"/>
  <Override PartName="/ppt/media/image5.jpeg" ContentType="image/jpeg"/>
  <Override PartName="/ppt/media/image61.png" ContentType="image/png"/>
  <Override PartName="/ppt/media/image59.png" ContentType="image/png"/>
  <Override PartName="/ppt/media/image63.jpeg" ContentType="image/jpeg"/>
  <Override PartName="/ppt/media/image60.png" ContentType="image/png"/>
  <Override PartName="/ppt/media/image90.jpeg" ContentType="image/jpeg"/>
  <Override PartName="/ppt/media/image99.png" ContentType="image/png"/>
  <Override PartName="/ppt/media/image64.pct" ContentType="image/x-pict"/>
  <Override PartName="/ppt/media/image67.png" ContentType="image/png"/>
  <Override PartName="/ppt/media/image12.png" ContentType="image/png"/>
  <Override PartName="/ppt/media/image24.jpeg" ContentType="image/jpeg"/>
  <Override PartName="/ppt/media/image103.jpeg" ContentType="image/jpeg"/>
  <Override PartName="/ppt/media/image62.png" ContentType="image/png"/>
  <Override PartName="/ppt/media/image96.jpeg" ContentType="image/jpeg"/>
  <Override PartName="/ppt/media/image65.pct" ContentType="image/x-pict"/>
  <Override PartName="/ppt/media/image100.png" ContentType="image/png"/>
  <Override PartName="/ppt/media/image22.jpeg" ContentType="image/jpeg"/>
  <Override PartName="/ppt/media/image101.jpeg" ContentType="image/jpeg"/>
  <Override PartName="/ppt/media/image77.jpeg" ContentType="image/jpeg"/>
  <Override PartName="/ppt/media/image94.jpeg" ContentType="image/jpeg"/>
  <Override PartName="/ppt/media/image93.jpeg" ContentType="image/jpeg"/>
  <Override PartName="/ppt/media/image84.png" ContentType="image/png"/>
  <Override PartName="/ppt/media/image17.jpeg" ContentType="image/jpeg"/>
  <Override PartName="/ppt/media/image23.jpeg" ContentType="image/jpeg"/>
  <Override PartName="/ppt/media/image102.jpeg" ContentType="image/jpeg"/>
  <Override PartName="/ppt/media/image66.pct" ContentType="image/x-pict"/>
  <Override PartName="/ppt/media/image95.jpeg" ContentType="image/jpeg"/>
  <Override PartName="/ppt/media/image7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79.png" ContentType="image/png"/>
  <Override PartName="/ppt/media/image75.jpeg" ContentType="image/jpeg"/>
  <Override PartName="/ppt/media/image74.jpeg" ContentType="image/jpeg"/>
  <Override PartName="/ppt/media/image73.jpeg" ContentType="image/jpeg"/>
  <Override PartName="/ppt/media/image70.pct" ContentType="image/x-pict"/>
  <Override PartName="/ppt/media/image21.jpeg" ContentType="image/jpeg"/>
  <Override PartName="/ppt/media/image8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4.png" ContentType="image/png"/>
  <Override PartName="/ppt/media/image76.jpeg" ContentType="image/jpeg"/>
  <Override PartName="/ppt/media/image25.jpeg" ContentType="image/jpeg"/>
  <Override PartName="/ppt/media/image104.jpeg" ContentType="image/jpeg"/>
  <Override PartName="/ppt/media/image2.png" ContentType="image/png"/>
  <Override PartName="/ppt/media/image72.jpeg" ContentType="image/jpeg"/>
  <Override PartName="/ppt/media/image9.jpeg" ContentType="image/jpeg"/>
  <Override PartName="/ppt/media/image11.png" ContentType="image/png"/>
  <Override PartName="/ppt/media/image91.png" ContentType="image/png"/>
  <Override PartName="/ppt/media/image8.jpeg" ContentType="image/jpeg"/>
  <Override PartName="/ppt/media/image92.jpeg" ContentType="image/jpeg"/>
  <Override PartName="/ppt/media/image3.png" ContentType="image/png"/>
  <Override PartName="/ppt/media/image88.jpeg" ContentType="image/jpeg"/>
  <Override PartName="/ppt/media/image29.jpeg" ContentType="image/jpeg"/>
  <Override PartName="/ppt/media/image98.jpeg" ContentType="image/jpeg"/>
  <Override PartName="/ppt/media/image39.jpeg" ContentType="image/jpeg"/>
  <Override PartName="/ppt/media/image82.png" ContentType="image/png"/>
  <Override PartName="/ppt/media/image105.jpeg" ContentType="image/jpeg"/>
  <Override PartName="/ppt/media/image26.jpeg" ContentType="image/jpeg"/>
  <Override PartName="/ppt/media/image85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40E1-2CF3-4394-A0E4-991EEAD19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7467-707D-48C7-A238-44D5E014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late clumps might be expected from the line-force instability, since it is a radial forc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the other hand, prolate structures might be expected to develop from classical plasma two-fluid instabilities (Rayleigh-Taylor; Richtmeyer-Meshko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7A1-0E90-4294-9C15-E62B4121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ADCA-3D3A-4891-8D5D-B3E221A3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6E6-DAC2-4874-A28B-7A166814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5E7-61F5-4C08-872D-B1AA7C67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FE6-DB6D-46EC-A24F-497B1DF1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E5D-73BE-4565-8E28-728F7BD2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240-4474-4584-8A02-5BF0F21E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2BB-9762-427F-9F80-3B081ACE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3EE-3811-4CC2-9011-73C27CF0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5A1-4DDE-49C0-8287-61A322A9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EB8-5176-4724-862C-5947233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FB5-4E72-4CA4-801F-2D91DF5D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E094-19EB-4175-9877-71F78CECE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image" Target="../media/image53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pct"/><Relationship Id="rId2" Type="http://schemas.openxmlformats.org/officeDocument/2006/relationships/image" Target="../media/image65.pct"/><Relationship Id="rId3" Type="http://schemas.openxmlformats.org/officeDocument/2006/relationships/image" Target="../media/image66.pct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70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45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4440" y="228600"/>
            <a:ext cx="8724960" cy="22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-ray Emission from Massive Stars: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Emission Line Profiles to Constrain Wind Kinematics, Geometry, and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0" y="2349000"/>
            <a:ext cx="4114800" cy="193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Co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. of Physics and Astr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thmore 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06720" y="2209680"/>
            <a:ext cx="2448000" cy="4013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16000" y="2246400"/>
            <a:ext cx="2666880" cy="189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2520" y="4238640"/>
            <a:ext cx="2685960" cy="191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13280" y="6435720"/>
            <a:ext cx="271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.swarthmore.edu/~co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283440" y="4456080"/>
            <a:ext cx="16462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1522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in these instability shock model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st of the wind is co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s a source of X-ray continuum o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080" y="2152800"/>
            <a:ext cx="341136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ssive winds of O stars are expected to b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tically th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oft X-rays…the inner ten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y be heavily absorbed: or so it is thou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velength depend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individual lines leads to the expectation that different absorption characteristics will be seen in different lines from a given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89440" y="2057400"/>
            <a:ext cx="4781520" cy="4800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83120" y="1589040"/>
            <a:ext cx="77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2160" y="158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213600" y="2179440"/>
            <a:ext cx="0" cy="3352680"/>
          </a:xfrm>
          <a:prstGeom prst="line">
            <a:avLst/>
          </a:prstGeom>
          <a:ln cap="rnd" w="1584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191360" y="2204640"/>
            <a:ext cx="0" cy="3352680"/>
          </a:xfrm>
          <a:prstGeom prst="line">
            <a:avLst/>
          </a:prstGeom>
          <a:ln cap="rnd" w="15840">
            <a:solidFill>
              <a:srgbClr val="8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07440" y="3238560"/>
            <a:ext cx="137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utral (ISM) cross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800760" y="3840120"/>
            <a:ext cx="74952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3840" y="5041800"/>
            <a:ext cx="13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cross sectio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51440" y="4632120"/>
            <a:ext cx="61920" cy="40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3808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Line Profiles Can Tell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447920"/>
            <a:ext cx="762012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velength of an emitted photon is proportional to the line-of-sight 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ps emission measure at each velocity/wavelength int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um absorption by the cold stellar wind affects the line s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lation between line-of-sight velocity and absorption optical depth will ca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ymmet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emission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51055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ray line profiles can provide the most direct observational constraints on the X-ray production mechanism in hot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295280"/>
            <a:ext cx="9143640" cy="4038840"/>
            <a:chOff x="0" y="1295280"/>
            <a:chExt cx="9143640" cy="4038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385920" y="1901160"/>
              <a:ext cx="1699560" cy="16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0" y="3627000"/>
              <a:ext cx="215784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3"/>
            <a:stretch/>
          </p:blipFill>
          <p:spPr>
            <a:xfrm>
              <a:off x="2266560" y="3627000"/>
              <a:ext cx="215784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4"/>
            <a:stretch/>
          </p:blipFill>
          <p:spPr>
            <a:xfrm>
              <a:off x="2652840" y="1901160"/>
              <a:ext cx="1699560" cy="165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"/>
            <a:stretch/>
          </p:blipFill>
          <p:spPr>
            <a:xfrm>
              <a:off x="4716720" y="3632760"/>
              <a:ext cx="2156400" cy="170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6"/>
            <a:stretch/>
          </p:blipFill>
          <p:spPr>
            <a:xfrm>
              <a:off x="6987240" y="3627000"/>
              <a:ext cx="215640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7"/>
            <a:stretch/>
          </p:blipFill>
          <p:spPr>
            <a:xfrm>
              <a:off x="4730760" y="1295280"/>
              <a:ext cx="216360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8"/>
            <a:stretch/>
          </p:blipFill>
          <p:spPr>
            <a:xfrm>
              <a:off x="5097240" y="1892160"/>
              <a:ext cx="16988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9"/>
            <a:stretch/>
          </p:blipFill>
          <p:spPr>
            <a:xfrm>
              <a:off x="7356240" y="1892160"/>
              <a:ext cx="1698480" cy="16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/>
          <p:cNvSpPr/>
          <p:nvPr/>
        </p:nvSpPr>
        <p:spPr>
          <a:xfrm>
            <a:off x="609480" y="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ission Profiles from a Spherically Symmetric, Expanding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uniform shell gives a rectangular pro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5486400"/>
            <a:ext cx="365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pherically-symmetric, X-ray emitting wind can be built up from a series of concentric shell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86600" y="5486400"/>
            <a:ext cx="20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ultation by the star remove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hotons, making the profile asym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1295280" y="1143000"/>
            <a:ext cx="7200720" cy="3665520"/>
            <a:chOff x="1295280" y="1143000"/>
            <a:chExt cx="7200720" cy="36655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295280" y="1143000"/>
              <a:ext cx="2833560" cy="36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098960" y="1496520"/>
              <a:ext cx="4397040" cy="33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1448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inuum Absorption Acts Like Occul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548640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photons are preferentially absorbed, making the line asymmetric: The peak is shifted to the blue, and the red wing becomes much less stee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3200400"/>
            <a:ext cx="2590920" cy="3352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819520" y="3657600"/>
            <a:ext cx="32572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3962520" y="152280"/>
            <a:ext cx="4476600" cy="2286000"/>
            <a:chOff x="3962520" y="152280"/>
            <a:chExt cx="4476600" cy="2286000"/>
          </a:xfrm>
        </p:grpSpPr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3962520" y="152280"/>
              <a:ext cx="176148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5705640" y="372600"/>
              <a:ext cx="2733480" cy="205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"/>
          <p:cNvSpPr/>
          <p:nvPr/>
        </p:nvSpPr>
        <p:spPr>
          <a:xfrm>
            <a:off x="533520" y="380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he wind-shock mod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514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empirical line profile model can also describe a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124080"/>
            <a:ext cx="2590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st of the emission concentrated near the photosphere and with very little acceleration, the resulting line profiles are very narr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7920" y="76320"/>
            <a:ext cx="1602000" cy="213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21160" y="2286000"/>
            <a:ext cx="159876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421160" y="46483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5943600" y="2362320"/>
            <a:ext cx="2819520" cy="2116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6019920" y="4648320"/>
            <a:ext cx="2819160" cy="2116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1905120"/>
            <a:ext cx="2590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s change in characteristic ways with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becoming broader and more skewed with increas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broader and more flat-topped with 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52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 variety of wind-shock properties can be mode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4572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1000" y="243828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464832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14400"/>
            <a:ext cx="121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3049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chive of Hot St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the pathetically small effective area of the gratings, only a handful of single OB stars can produce high-quality spectra – maybe a dozen total; we will look at several representative single OB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52560" y="2209680"/>
          <a:ext cx="7238880" cy="300672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447920"/>
                <a:gridCol w="1447920"/>
                <a:gridCol w="14475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. 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d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n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4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9.5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9.7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i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7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(-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 G dipole magnetic 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-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usually X-ray bright and h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.5 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(-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, but more 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0.5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~5(-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ta Cep v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08200" y="1971720"/>
            <a:ext cx="57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’re talking about thermal, collisional/coronal, equilibrium, optically thin plasmas here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9200" y="1311120"/>
            <a:ext cx="79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gnostics and Phys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62080" y="3301920"/>
            <a:ext cx="681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s and overall emission levels: 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ies: line ratios…but also source location vi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ndances: line ratios and line-to-continuum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inematics: line broadening and profile sh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8960" y="187200"/>
            <a:ext cx="80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have increased the spectral resolution available to X-ray astronomers by almost a factor of 1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23960" y="76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ppearance of spectra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189680" cy="1857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4189680" cy="1819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0560" y="2438280"/>
            <a:ext cx="4268520" cy="18687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570560" y="4267080"/>
            <a:ext cx="4268520" cy="182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259092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5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419720"/>
            <a:ext cx="99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7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9092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B0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8960" y="4314960"/>
            <a:ext cx="964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bbe0e3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B0.5 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6248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95920" y="625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8320" y="6280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7480" y="6248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1668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5808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303800" y="609480"/>
            <a:ext cx="4535280" cy="1836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56320" y="728640"/>
            <a:ext cx="129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 Ori C </a:t>
            </a: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O7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53880" y="609480"/>
            <a:ext cx="4216680" cy="1828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33880" y="7938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500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4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76240" y="76320"/>
            <a:ext cx="7391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in on a characteristic portion of the 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192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clearly a range of line profile morphologies from star to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113360" cy="1676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80880" y="4114800"/>
            <a:ext cx="4114800" cy="1523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48320" y="2438280"/>
            <a:ext cx="4114800" cy="1676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648320" y="4114800"/>
            <a:ext cx="411480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71600" y="57150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715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05720" y="571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7600" y="5715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 XV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571500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 XV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91440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4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259092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5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4191120"/>
            <a:ext cx="9907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O9.7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2567160"/>
            <a:ext cx="99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buClr>
                <a:srgbClr val="bbe0e3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B0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18080" y="4267080"/>
            <a:ext cx="964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buClr>
                <a:srgbClr val="bbe0e3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 </a:t>
            </a: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Baskerville Semibold"/>
              </a:rPr>
              <a:t>(B0.5 I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457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57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57680" y="44136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457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4638600" y="749160"/>
            <a:ext cx="4130640" cy="16941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75520" y="879480"/>
            <a:ext cx="104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30000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 Ori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(O7 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2160" y="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4760" y="774720"/>
            <a:ext cx="605160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: the context of hot star X-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profile diagno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the observations look lik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rends emer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p: wind X-rays, but less absorption than ex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i: similar situation, very little wind absorption; but wind-shock parameters are otherwise satis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etic OB stars are a different story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i C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o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o are normal B stars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ru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17760" y="6216480"/>
            <a:ext cx="61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uch of the work in this talk was done by Swarthmore students, Roban Kramer and Stephanie Tonne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ces in the line shapes become apparent when we look at a single line (here Ne X, L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04920" y="4724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200400" y="28954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3200400" y="472428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6095880" y="10666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6095880" y="28954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6095880" y="4724280"/>
            <a:ext cx="2667240" cy="17780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810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P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30621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080" y="48769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692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6920" y="4876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72400" y="1295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3062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AB Dor </a:t>
            </a:r>
            <a:r>
              <a:rPr b="0" lang="en-US" sz="1400" spc="-1" strike="noStrike">
                <a:solidFill>
                  <a:srgbClr val="bbe0e3"/>
                </a:solidFill>
                <a:latin typeface="Baskerville Semibold"/>
              </a:rPr>
              <a:t>(K1 V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4876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Baskerville Semibold"/>
              </a:rPr>
              <a:t>Capella </a:t>
            </a:r>
            <a:r>
              <a:rPr b="0" lang="en-US" sz="1400" spc="-1" strike="noStrike">
                <a:solidFill>
                  <a:srgbClr val="bbe0e3"/>
                </a:solidFill>
                <a:latin typeface="Baskerville Semibold"/>
              </a:rPr>
              <a:t>(G2 II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396252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038480"/>
            <a:ext cx="228600" cy="0"/>
          </a:xfrm>
          <a:prstGeom prst="line">
            <a:avLst/>
          </a:prstGeom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9636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3208320" y="1054080"/>
            <a:ext cx="2651040" cy="1844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95840" y="1187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30000">
                <a:solidFill>
                  <a:srgbClr val="bbe0e3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Ori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07000" y="990720"/>
            <a:ext cx="0" cy="563868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876240" y="2590920"/>
            <a:ext cx="7391160" cy="3581280"/>
            <a:chOff x="876240" y="2590920"/>
            <a:chExt cx="7391160" cy="358128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tretch/>
          </p:blipFill>
          <p:spPr>
            <a:xfrm>
              <a:off x="876240" y="2590920"/>
              <a:ext cx="29088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3754080" y="2936520"/>
              <a:ext cx="4513320" cy="32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380880" y="15228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idea: fit lines with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 that can do the job, and use one that, while based in physics,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that any number of physical models can be tested or constrained based on the model f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5248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wocki &amp; Cohen (2001): spherically symmetric, two-fluid (hot plasma is interspersed in the cold, x-ray absorbing bulk wind); beta velocity law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61722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ualizations of the wind us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u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line-of-sight veloc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missiv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; corresponding profiles are plotted vs. scaled velocity wher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1,1 correspond to the terminal veloc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80880" y="380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lculate line profiles using a 4-paramet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1066680"/>
            <a:ext cx="632448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parameters describ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tial and velocity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emission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minimum radius of X-ray emission, whil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the acceleration of the wind an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izes the radial dependence of the filling fa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arameter,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es the leve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inuum absor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overlying wi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5720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ind terminal velocity is assumed based on UV observations, and the calculated line profile is convolved with the appropriate instrument-response function for each lin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343400" y="76320"/>
            <a:ext cx="1601640" cy="21333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343400" y="4191120"/>
            <a:ext cx="1598760" cy="213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5638680" y="200160"/>
            <a:ext cx="3124440" cy="2009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3124440" cy="20653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5638680" y="4259160"/>
            <a:ext cx="3124440" cy="206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632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 has four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43080" y="838080"/>
                <a:ext cx="4000320" cy="208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: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/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:</m:t>
                        </m:r>
                        <m:sSup>
                          <m:e>
                            <m:r>
                              <m:t xml:space="preserve">jµ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  <m:r>
                          <m:t xml:space="preserve">: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/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  <m:r>
                                  <m:t xml:space="preserve">'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'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β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438280" y="137160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8862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ine profile is calculat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6440" y="5013360"/>
            <a:ext cx="352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257800"/>
            <a:ext cx="3581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lines broader; increas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s them more blueshifted and sk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96080" y="228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96080" y="23623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96080" y="4419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91320" y="640080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676520" y="2819520"/>
                <a:ext cx="14475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/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pR</m:t>
                            </m:r>
                          </m:e>
                          <m:sub/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" y="4267080"/>
                <a:ext cx="33526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λ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nary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rd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1563840"/>
            <a:ext cx="3048120" cy="2170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3048120" y="1563840"/>
            <a:ext cx="3047760" cy="2170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095880" y="1563840"/>
            <a:ext cx="3048120" cy="2170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3809880"/>
            <a:ext cx="3124080" cy="2222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3048120" y="3809880"/>
            <a:ext cx="3124080" cy="2225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6019920" y="3809880"/>
            <a:ext cx="3124080" cy="2224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228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t all the (8) unblended strong lines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trum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: all the fits are statisticall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76520" y="1828800"/>
            <a:ext cx="1218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Ne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12.13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8288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5.01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24680" y="18288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6.78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4038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Fe XVII 17.05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4038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O VIII 18.97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01000" y="39625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Semibold"/>
              </a:rPr>
              <a:t>N VII 24.78 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049800" y="2209680"/>
            <a:ext cx="1536840" cy="2590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4484520" y="2209680"/>
            <a:ext cx="1586160" cy="2600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607160" y="2209680"/>
            <a:ext cx="1538280" cy="259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17680" y="-1584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the derived mod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3080" y="548640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we show the best-fit model to the O VIII line and two models that are marginally (at the 95% limit) consistent with the data; they are the models with the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poss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175248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west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1752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175248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ighest </a:t>
            </a:r>
            <a:r>
              <a:rPr b="0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8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534160" cy="2842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09480" y="3808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mong the mode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Fe XVII 15.013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4952880"/>
            <a:ext cx="3276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es with low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r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4952880"/>
            <a:ext cx="304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es with bigg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le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952880" y="42840"/>
            <a:ext cx="3733920" cy="3157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52280" y="2895480"/>
            <a:ext cx="3886200" cy="3324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181480" y="3432240"/>
            <a:ext cx="3505320" cy="3044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2286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depiction of the best fit (black circles) and 95% confidence limits (gray triangles) on the three fitted parameters for seven of the lines in t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 spectru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3595680"/>
            <a:ext cx="762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243000"/>
            <a:ext cx="762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62160"/>
            <a:ext cx="7621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457200"/>
            <a:ext cx="8076960" cy="55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are well fit by our four parameter mode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ctually held constant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; so three free parameters)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’s X-ray lines are consistent with a spatially distributed, spherically symmetric, radially accelerating wind scenario, with reasonable paramete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        :4 to 15 times less than predi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e leve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 absorption is significantly be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at’s expec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here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ignificant wavelength depend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optical depth (or any paramete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0" y="1012680"/>
            <a:ext cx="4133880" cy="45579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69880" y="1362240"/>
            <a:ext cx="3591000" cy="43178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3520" y="152280"/>
            <a:ext cx="807696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everal tenths of a stellar radius is expected based on numerical simulations of the line-force instabilit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lf-excited on the left; sound wave purturbations at the base of the wind on the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6640" y="5834160"/>
            <a:ext cx="815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the X-ray-emitting plasma near the photosphere is indicated by He-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/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tios (Kahn et al.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95280"/>
            <a:ext cx="930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tars, like the Sun, have convective envelopes that support a magnetic dynamo, heating a corona to X-ray emitting temperatures via magnetic reconnection (and other magnetic processes, perha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0960" y="3198960"/>
            <a:ext cx="2995920" cy="2392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5760" y="3197160"/>
            <a:ext cx="2363760" cy="2363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014880" y="3197160"/>
            <a:ext cx="29228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324480" y="3276720"/>
            <a:ext cx="1143000" cy="1143000"/>
          </a:xfrm>
          <a:prstGeom prst="rect">
            <a:avLst/>
          </a:prstGeom>
          <a:noFill/>
          <a:ln w="158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6019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otted line is interste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152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 opacity for canonical B star abund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5680" y="727200"/>
            <a:ext cx="366552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o expect some wavelength dependence of the cross sections (and thus of the wind optical depth), BUT the lines we fit cover only a modest range of wavelengths.  And in the case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p, nitrogen overabundance (not in calculation shown at right) could flatten out the wavelength dependence even mo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perhap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ump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ys a role.  And clumping (alt. “porosity”) certainly could play a role in the overall reduction of wind optical dept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29400" y="1752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K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40080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8880" y="792000"/>
            <a:ext cx="81802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mping, or random density inhomogene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s a porous wind, potentially with paths having lower column densities (but other paths higher, if mass is conserv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duce average optical depth of the wind appreciably only if individual clumps are optically thick: Then the atomic cross section in the opacity is replaced by the physical cross section of the cl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mps would therefore have to be quite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sotropic clumping can have an effect  on line profil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228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isotropic clum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also favor “sideways” escape, and thus suppression of the bluest and reddest photons, if the clump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late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akes lines more symmetr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3880" y="3324240"/>
          <a:ext cx="6097680" cy="20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24240"/>
                    <a:ext cx="609768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304920" y="1752480"/>
          <a:ext cx="4647960" cy="4259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752480"/>
                    <a:ext cx="4647960" cy="42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 flipH="1">
            <a:off x="4038480" y="480060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4114800" y="3962520"/>
            <a:ext cx="32767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38080" y="2666880"/>
            <a:ext cx="647712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505320" y="3581280"/>
            <a:ext cx="40384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590920" y="5181480"/>
            <a:ext cx="533376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419720" y="4343400"/>
            <a:ext cx="35812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2285640" y="3200400"/>
            <a:ext cx="52578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447920" y="5715000"/>
            <a:ext cx="594360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2520" y="6019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etian Bl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397160" y="1162080"/>
            <a:ext cx="6346800" cy="54594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47760" y="25416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2-D hydro sims of the line-force instability (time evolution clockwise): Note--clumps are very small, and pr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2600" y="171360"/>
            <a:ext cx="853596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other O supergiant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i, fit into the wind-shock paradig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ong lines in these other O supergiants can also be fit by the simple spherically symmetric win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170240" y="2529000"/>
            <a:ext cx="4973760" cy="37479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4892760" cy="36892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895320" y="225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Fe XVII 15.01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68880" y="2219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 O VIII 18.97 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2160" y="618156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they are clearly less asymmetric and a little na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76640" y="31687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4200" y="3195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24000" y="228600"/>
            <a:ext cx="8496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s are a few tenths, although a value of zero can be ruled out at the 95% confidence limit in all but one line…however, values above 0.5 or even 1 cannot be ruled out in mo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4267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876920" cy="42674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5238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676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1486080"/>
            <a:ext cx="4800600" cy="44575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4267080" y="1504800"/>
            <a:ext cx="4876920" cy="44388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523880" y="144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91320" y="1447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askerville Semibold"/>
              </a:rPr>
              <a:t>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792504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radius of the onset of X-ray emission is within the first stellar radius above the photosphere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consistent with a height of 3/10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less at the 95% confidence level for all the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" y="5943600"/>
            <a:ext cx="8229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produce the relati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row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lines (compar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476280" y="380880"/>
            <a:ext cx="819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 for normal, O supergi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01640" y="1828800"/>
            <a:ext cx="8059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ically symmetric, standard wind-shock model fit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level of continuum absorption in the wind must be reduced from expected values by factors of ~5 (clumping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93920" y="4702320"/>
            <a:ext cx="635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iagnostics (DEM, abundances, density-sensitive line ratios) provide information too; generally consistent with the standard pi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76240" y="3049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the stars with the harder X-rays and narrower line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i C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co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4114800" cy="35845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14479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’s Ne X line overplotted with a delta function mod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53341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ne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 look more like those in coronal sources…and the line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aren’t a whole lot broad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257720" y="1473120"/>
            <a:ext cx="4572000" cy="3922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561440" y="15843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88080" y="2836800"/>
            <a:ext cx="10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69360" y="394020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84600" y="2181240"/>
            <a:ext cx="3214800" cy="2320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589640" y="0"/>
            <a:ext cx="3216240" cy="2144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586400" y="4552920"/>
            <a:ext cx="3247920" cy="21654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20560" y="198360"/>
            <a:ext cx="35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 X lines of representative star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940520" y="29376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78600" y="2433600"/>
            <a:ext cx="12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7920" y="474516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360" y="2205000"/>
            <a:ext cx="3622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7 V sta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has a strong wind, like the O4 supergia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, but it is very young and has a strong magnetic fiel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0 V sta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 is also young (but not as youn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66720" y="355680"/>
            <a:ext cx="780732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 earlier than about F5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8000 K) don’t have convective envelopes and don’t have any X-ray emiss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that O and early B st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X-ray emi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hey are strong sources of soft X-rays.  And they hav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stellar wi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lum bright="-30000"/>
          </a:blip>
          <a:stretch/>
        </p:blipFill>
        <p:spPr>
          <a:xfrm rot="21577800">
            <a:off x="682560" y="2660760"/>
            <a:ext cx="3089520" cy="2943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45960" y="5881680"/>
            <a:ext cx="378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nd broadened and blueshifted UV absorption lines of an O and a B s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07200" y="2787480"/>
            <a:ext cx="2590560" cy="257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00560" y="5734080"/>
            <a:ext cx="3314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T imag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r; an extreme example of a hot star win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0" y="21337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2640" y="2860560"/>
            <a:ext cx="426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-Doula and Owocki (2001) have performed MHD simulations of magnetically channelled winds: Equatorward flow inside closed field lines and associated strong shocks are s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5791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-component of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8000" y="301680"/>
            <a:ext cx="81262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 x-ray luminosities and hard x-ray spectra (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) already argue against instability-generated shock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ggest tha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brid wind-magne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 might be appropriate, especially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on whic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100 G dipole field has been dis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346480" y="2209680"/>
            <a:ext cx="4446360" cy="3589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68360" y="26676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gnetically Confined Wind Shock model (Babel and Montmerle 1997) has been applied to stars with large-scale, strong dipole fields and winds, like Ap/Bp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-Doula has made models specific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and included radiative cooling for the first tim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a movie of density, evolving from an initial spherically symmetric steady-state wi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19280" y="1373040"/>
            <a:ext cx="59054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162080" y="93024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66880" y="179280"/>
            <a:ext cx="56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162080" y="101448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54120" y="189000"/>
            <a:ext cx="78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162080" y="947880"/>
            <a:ext cx="6819840" cy="56959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055520" y="169920"/>
            <a:ext cx="71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(again), but with low speeds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316240"/>
            <a:ext cx="2743200" cy="1646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200400" y="2313000"/>
            <a:ext cx="2743200" cy="164952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6095880" y="2313000"/>
            <a:ext cx="2743200" cy="16495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175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1752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752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52280" y="4114800"/>
            <a:ext cx="2971800" cy="9907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3048120" cy="10144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5943600" y="4140360"/>
            <a:ext cx="2971800" cy="990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57200" y="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ked at some snapshots from these simulations and synthesized line profi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nd emission measure distributions and light curv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4864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throughout, the speed is in terms of an assumed terminal speed of 2500 km 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990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irst snapshot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i C is from a time when the hot plasma is relatively placid, filling the closed loop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0880" y="3808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eometry and viewing angle are relatively well established for this sta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1450800"/>
            <a:ext cx="3124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4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lt between the rotation axis and both the magnetic axis and the direction of the Earth: we see a full range of viewing angles of the magnetosphere, and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for four of th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243320" y="1539720"/>
            <a:ext cx="4124520" cy="44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228600"/>
            <a:ext cx="7772400" cy="13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thus synthesize line profiles for a range of viewing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re we show 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looking down the magnetic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or contours are now line-of-sight velocity; and the black contours enclose plasma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3276720" y="1825560"/>
            <a:ext cx="5638680" cy="343224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4419720" y="5187960"/>
            <a:ext cx="3411360" cy="11365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0" y="1814400"/>
            <a:ext cx="3957480" cy="3900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-1066680" y="1569960"/>
            <a:ext cx="5960880" cy="335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6248520" y="152388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19040" y="318960"/>
            <a:ext cx="830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viewing angles show similarly narrow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262400" y="1428840"/>
            <a:ext cx="4213440" cy="25416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290840" y="4122720"/>
            <a:ext cx="4233960" cy="26589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1054080" y="1506600"/>
            <a:ext cx="2408400" cy="23511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027080" y="4200480"/>
            <a:ext cx="2514600" cy="24782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 flipH="1">
            <a:off x="7637400" y="1150920"/>
            <a:ext cx="416160" cy="3366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8440200" y="5334120"/>
            <a:ext cx="530280" cy="158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1200" y="198360"/>
            <a:ext cx="75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estions we’d like to address with high-resolution X-ray spectrosco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3240" y="1684440"/>
            <a:ext cx="7874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OB stars produce X-rays at all? What’s the connection between their massive winds and their X-ray emissio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the nature of wind instabilites and shocks in normal hot stars?  Can this (class of) model(s) work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ole do magnetic fields play in hot stars and their X-ray emission? (e.g. do B stars have coronae? How can young hot stars be so hot and bright in X-rays?  How can hot stars with extreme X-ray properties be understood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61320" cy="55738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39560" y="98280"/>
            <a:ext cx="824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widths from MHD sims (colored symbols) are very narro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with data (black diamonds) is quite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655640" y="779400"/>
            <a:ext cx="5813640" cy="5429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495360" y="0"/>
            <a:ext cx="80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’s no viewing angle dependence of the line centr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532320" y="1231920"/>
            <a:ext cx="5611680" cy="56260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4595760" y="1893960"/>
            <a:ext cx="171360" cy="19188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437680" y="2747880"/>
            <a:ext cx="171360" cy="19224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956720" y="2816280"/>
            <a:ext cx="171360" cy="19188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19840" y="2268360"/>
            <a:ext cx="171360" cy="192240"/>
          </a:xfrm>
          <a:prstGeom prst="ellipse">
            <a:avLst/>
          </a:prstGeom>
          <a:solidFill>
            <a:srgbClr val="80008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63720" y="1028880"/>
            <a:ext cx="2966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X-ray flux synthesized from the same MHD simulation snapsho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p at oblique viewing angles is due to stellar occult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four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is superimp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43080" y="414360"/>
            <a:ext cx="66438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 of magnetically channeled wind shock model applied t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i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-ray emission line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 are quite narrow at all observed viewing angles -- as our MHD simulations predi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ccultation of the magnetosphere by the star accounts nicely for the modest change in X-ray flux with viewing ang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, He-like forbidden-to-intercombination line ratios in Mg and S indicate that the bulk of the X-ray emitting plasma is within 1 stellar radius of the photosphere - in accord with the MHD simul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3800520" y="3414600"/>
            <a:ext cx="4010040" cy="2673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786120" y="609480"/>
            <a:ext cx="4032360" cy="2687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0" y="60948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 X line once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900920" y="9097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54920" y="3649680"/>
            <a:ext cx="1189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0.5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0160" y="3008160"/>
            <a:ext cx="35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 is a normal, early B star - neither magnetic nor young; it has a wind, but its profiles are also na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5698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arrow(ish) lines be explained by slow wind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858960" y="928800"/>
            <a:ext cx="7421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93640" y="33012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netic OB stars, and normal B st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30160" y="1593720"/>
            <a:ext cx="75884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ically channeled wind-shock models are promising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i C, perhap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o): Schulz (2003) has shown that O stars have these X-ray signatures for less than 1 million years on the mai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 stars (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u, B0.5 IV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a B2 II) have very soft X-ray spectra and narrow lines: wind shocks if the X-ray wind isn’t moving very fast? Magnetically channeled wind shocks if the shocks aren’t very strong? Dynamo-driven coronae if our understanding of dynamos is incomple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46120" y="282600"/>
            <a:ext cx="79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n there are some extreme cases, like the Be star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39560" y="1693800"/>
            <a:ext cx="4132440" cy="2394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4154400"/>
            <a:ext cx="4114800" cy="2544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35520" y="21668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 with peak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2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4317840"/>
            <a:ext cx="38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X 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is broadened (HWHM ~ 500 k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39560" y="1198440"/>
            <a:ext cx="3772080" cy="48578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528480" y="198360"/>
            <a:ext cx="67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: HETGS spectrum with iron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41920" y="1235160"/>
            <a:ext cx="40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y extreme magnetic activity associated with Be star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13520" y="3262320"/>
            <a:ext cx="348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neutral iron fluorescence feature - evidence of X-ray reprocessing in the cold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3501720" y="1883880"/>
            <a:ext cx="1684440" cy="165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24000">
            <a:off x="2459880" y="87156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X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24000">
            <a:off x="2718360" y="858960"/>
            <a:ext cx="8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33560" y="140328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95640" y="1355760"/>
            <a:ext cx="0" cy="22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62120" y="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722160"/>
            <a:ext cx="851076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relatively wide variety of line profile morphologies seen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and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ations of OB stars, indicating that a surprising variety of high-energy physical processes are occurring in early-type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giants with massive radiation-driven winds have X-ray emitting plasma distributed throughout their winds: Standard wind-shock models explain the data if the mean optical depth of the cool wind component is several times lower than expected (mass-loss rates overestimated? clumping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ng O and early B stars are well explained by the hybrid magnetically channeled wind shock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be some unusual objects like the Be st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s have magnetic dynamos, perhaps due to star-disk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 B stars don’t fit neatly into any of these paradig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5840" y="1116000"/>
            <a:ext cx="2422440" cy="55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 Cygni profiles in two hot stars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4,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0 V, 50,000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dy-state theory is very successfu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explaining the time-average properties of hot-star wi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>
            <a:lum bright="-14000"/>
          </a:blip>
          <a:stretch/>
        </p:blipFill>
        <p:spPr>
          <a:xfrm rot="21597600">
            <a:off x="2873160" y="1168560"/>
            <a:ext cx="5970600" cy="5689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44720" y="31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248520" y="1724040"/>
            <a:ext cx="12600" cy="2170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84880" y="4264200"/>
            <a:ext cx="1800" cy="16459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90800" y="1752480"/>
            <a:ext cx="12960" cy="2170080"/>
          </a:xfrm>
          <a:prstGeom prst="line">
            <a:avLst/>
          </a:prstGeom>
          <a:ln w="2232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413320" y="4266720"/>
            <a:ext cx="1800" cy="1646280"/>
          </a:xfrm>
          <a:prstGeom prst="line">
            <a:avLst/>
          </a:prstGeom>
          <a:ln w="22320">
            <a:solidFill>
              <a:srgbClr val="99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0360" y="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stars’ radiation-driven winds contain enormous kinetic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457280" y="1055520"/>
            <a:ext cx="625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 SLID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87480" y="1228680"/>
            <a:ext cx="7466040" cy="5172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0280" y="0"/>
            <a:ext cx="86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, hot star winds are not steady-state: They display lots of time variabi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1600" y="1176480"/>
            <a:ext cx="21384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days of UV spectra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lor plot is the ratio of each spectrum to the mean spectrum (botto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ical and stochastic variability is seen in most hot stars’ wi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89080" y="1739880"/>
            <a:ext cx="5013000" cy="5118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s of the winds show lots of structure: turbulence, shock waves, collisions between “clou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haotic behavior is predicte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e X-r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ck-he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some small fraction of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0920" y="2085840"/>
            <a:ext cx="3395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nd structure - and associated shock heating - is generated by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-force inst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relies on Doppler deshadowing of radiatively-driven ions to increase the radiative driving in an exponentially growing feedback proc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452600"/>
            <a:ext cx="7315200" cy="5405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napshot at a single time from the same simulation.  Note the discontinuities in velocity.  These are shock fronts, compressing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ind, produc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20:23:59Z</dcterms:created>
  <dc:creator>David Cohen</dc:creator>
  <dc:description/>
  <dc:language>en-US</dc:language>
  <cp:lastModifiedBy>David Cohen</cp:lastModifiedBy>
  <dcterms:modified xsi:type="dcterms:W3CDTF">2003-11-01T07:29:36Z</dcterms:modified>
  <cp:revision>370</cp:revision>
  <dc:subject/>
  <dc:title>PowerPoint Presentation  -  X-ray Emission Line Profile Diagnostics of Hot Star Winds: Constraints on Dynamics, Geometry, and Opacity</dc:title>
</cp:coreProperties>
</file>